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D93-113F-4AD2-86C0-68499395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876-BD6E-484C-B736-1300A5D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384-3A3B-4FAC-9356-F08A088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893-F959-4046-A8A5-9BEC25E3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6F7-8951-451E-824D-418BC02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677-C858-42A8-9695-EF3F8637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ECF-360A-43B8-A714-785405CE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191-46FE-453A-AA12-6F3B6AB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AB2-9E13-4F6F-84E3-FF759057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D80-1452-4DAC-A0E9-6816219C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3BA-0879-40A3-9445-7BAD8D3C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016-3940-42A5-9D13-8E7B47F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C9F8-6AF6-4686-8DAD-900236B94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ttila_Museu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Huns_in_Italy_by_Chec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49192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ЛА ВРАЩЕНИЯ И ИХ ОБЪ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08000" y="981000"/>
            <a:ext cx="0" cy="46800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908000" y="2565000"/>
            <a:ext cx="165600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59280" y="98100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92360" y="2276640"/>
            <a:ext cx="287964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276640"/>
            <a:ext cx="0" cy="14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59280" y="2421000"/>
            <a:ext cx="0" cy="14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2565360"/>
            <a:ext cx="0" cy="14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9280" y="2852640"/>
            <a:ext cx="0" cy="14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141720"/>
            <a:ext cx="0" cy="142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43640" y="342900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68360" y="1773360"/>
            <a:ext cx="935280" cy="194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119700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43836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5651640" y="1989000"/>
            <a:ext cx="2017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цилинд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321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V=S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84360" y="112536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1844640"/>
            <a:ext cx="100800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95680" cy="5648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651640" y="3645000"/>
            <a:ext cx="26859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боков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верх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ону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241956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732720" y="2060640"/>
            <a:ext cx="1511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ш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62840" y="4004640"/>
            <a:ext cx="254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=4/3 πR</a:t>
            </a:r>
            <a:r>
              <a:rPr b="0" lang="en-US" sz="4000" spc="-1" strike="noStrike" baseline="30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50101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Отрывок из поэмы А.С. Пушкина «Скупой рыцар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36912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итал я где-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царь однажды воинам сво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лел снести земли по горсти в кучу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гордый холм возвыси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царь мог с высоты с весельем ози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ол, покрытый белыми шатр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море, где бежали кораб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0920" y="1052640"/>
            <a:ext cx="0" cy="410508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3280" y="234936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2228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16000" y="562104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Гунны идут на Рим. Иллюстрация худ. Ульпиано Ке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781200" cy="2904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2708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349360"/>
            <a:ext cx="2305080" cy="863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88000" y="3860640"/>
            <a:ext cx="242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круж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-0.00115 C -0.22187 -0.05181 -0.17691 -0.08374 -0.12691 -0.08374 C -0.07691 -0.08374 -0.03194 -0.05181 -0.00191 -0.00115 C -0.03194 0.04951 -0.07691 0.08143 -0.12691 0.08143 C -0.17691 0.08143 -0.22187 0.04951 -0.25191 -0.00115 Z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2276640"/>
            <a:ext cx="0" cy="165564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08360" y="2276640"/>
            <a:ext cx="0" cy="16556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32000" y="2276640"/>
            <a:ext cx="0" cy="165564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1989000"/>
            <a:ext cx="237492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32000" y="3573360"/>
            <a:ext cx="237492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256536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0360" y="270828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7640" y="270828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2637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2920" y="3429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56536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2637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70828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2637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13372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205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2205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206064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206064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6360" y="206064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42900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213372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06064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06064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2133720"/>
            <a:ext cx="0" cy="15112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328464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2997360"/>
            <a:ext cx="0" cy="142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234936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70828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386064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3573360"/>
            <a:ext cx="0" cy="142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932360" y="3645000"/>
            <a:ext cx="280980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боков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верхно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цилинд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0647 C -0.03212 0.04418 -0.07709 0.07611 -0.12709 0.07611 C -0.17709 0.07611 -0.22205 0.04418 -0.25209 -0.00647 C -0.22205 -0.05713 -0.17709 -0.08906 -0.12709 -0.08906 C -0.07709 -0.08906 -0.03212 -0.05713 -0.00209 -0.00647 Z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84360" y="1700280"/>
            <a:ext cx="1008000" cy="2016000"/>
          </a:xfrm>
          <a:prstGeom prst="rtTriangl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84360" y="1700280"/>
            <a:ext cx="1008000" cy="2016000"/>
          </a:xfrm>
          <a:prstGeom prst="rtTriangl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76360" y="1700280"/>
            <a:ext cx="1008000" cy="2016000"/>
          </a:xfrm>
          <a:prstGeom prst="rtTriangl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357720"/>
            <a:ext cx="2016000" cy="720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84360" y="2205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1628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78136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92280"/>
            <a:ext cx="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306864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3357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3645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35772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933720"/>
            <a:ext cx="0" cy="144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6000" y="2060640"/>
            <a:ext cx="11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ону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61080" y="2996280"/>
            <a:ext cx="259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V=1/3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1247760" cy="2210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4360" y="98100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628640"/>
            <a:ext cx="2303280" cy="22305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63700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2852640"/>
            <a:ext cx="28728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2872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3500280"/>
            <a:ext cx="28728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32000" y="2276640"/>
            <a:ext cx="2303280" cy="86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773360"/>
            <a:ext cx="2872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2133720"/>
            <a:ext cx="28728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2421000"/>
            <a:ext cx="2160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2421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205000"/>
            <a:ext cx="144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2205000"/>
            <a:ext cx="14436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20500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227664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2349360"/>
            <a:ext cx="14472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64000" y="3429000"/>
            <a:ext cx="20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ф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1:07:31Z</dcterms:created>
  <dc:creator> </dc:creator>
  <dc:description/>
  <dc:language>en-US</dc:language>
  <cp:lastModifiedBy> </cp:lastModifiedBy>
  <dcterms:modified xsi:type="dcterms:W3CDTF">2010-03-30T10:53:33Z</dcterms:modified>
  <cp:revision>8</cp:revision>
  <dc:subject/>
  <dc:title>Слайд 1</dc:title>
</cp:coreProperties>
</file>